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4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2ADF-0666-47F4-979F-CC1F9320B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DB8D-CFBD-4E0C-81E3-B19620401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8A7B-0720-4399-AC2C-D81804286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1569-FA1B-49D3-B57B-80C8B9A52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FF22-1E07-4346-90A1-E8D33B2DD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F061-943E-4FE2-82EE-135FAEBEE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1414-1F61-4961-A412-583325FEC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4975-59F0-4D7E-BB78-A346FDE4F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D05B-A35D-4B7B-862B-E172CE4FA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D1ED-8919-4C1A-B48E-3DF0C26D7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0BDD-7B52-4FC4-99D6-9EC932A03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F9CA-3B53-4FFA-B42F-7229F783F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5F8D-D5C9-4FB8-8AFF-2912E8186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E914-F3EA-450E-AB8F-4B8B26254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DE6F-D708-4CA0-8236-A63DA2B39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4D5B-C376-4F0F-96FE-5668B2BB7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9809-6CE5-4306-9D95-D2C611C8D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0097-727D-45B0-9A74-1F76E36B2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0DA8-A251-4C6F-9F4F-B7F923DD6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D88A-1D0F-46EA-92FF-8DF1EEBCA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DE9B-8068-4AB9-97B7-CB17FCBA9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8055-9A30-404D-BE6D-5F5C06D68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EBFA-76B1-4AEA-8B5C-8F7BCD9DF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A7B8-743F-46A8-9286-6AE74301B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8978-39A8-4BC6-993A-2C9F424E4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6541-C977-4F3E-823D-AFC52A974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2055-7677-4C38-ABBA-1074CAD76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8A0B-4E18-439C-82A4-A8F25ECA1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EF19-74FB-4BC4-ABFE-E324F559A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520F-29E9-4E24-AC71-B6368BCAC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43F2-19C1-48E7-A3D4-33E08E7E0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A4FF-BC0E-428B-9D3A-8B72EBD29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25635-32BD-496B-80ED-D654792BC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B87C9-4F15-40BF-89C1-C6494DA9D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E9ED9-A7DA-4DEF-8B75-9AAE5EDAD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B0D30-D3E7-4CC8-B4A9-A5A2DB4B4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81A-4D3F-41F7-9A78-66F276C0A7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EC5-72BF-42B3-BAD2-914832FF90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B17-AE55-42F7-A358-F1F75E4052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8628-690D-4308-8CB4-92B3459210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DFD7-804D-434F-BF48-4AC97ED35E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C29-D62D-4787-926B-1BEBBED53C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AF8D-58C7-4C75-BFD9-5B243A3771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6352E-E177-488A-9B25-E83E62BB2D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8BF4-BBFB-4F5A-86DD-2CB2782807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C41-8851-4FC4-AFEB-B3303D570A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8F9-16EA-4691-9D0A-369B966FFB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174-FC90-4F3F-945A-043E13A02F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A71-EED9-4B3E-9E0C-2000B28974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038DE-E0B5-4481-A2C8-F5922F4044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A1107-4D07-4226-8BB9-7790B14E97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7B8F0-C555-4FC9-AE29-A5C6A9C9E6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3C869-2EB9-44EE-915E-EC77240236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4787D-2CFF-4CBC-A4B9-148537DE84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97B37-9D23-4DBD-805B-C35198376A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DBD20-D986-482C-A263-7FF54F4A53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EBFA9-2A3F-43D9-9747-6F7B51C1A4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E681D-925B-4485-8E45-72D7B6F777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E3739-5B30-4C1B-8CF6-A52C873A55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3E214-43A8-4B94-ADD8-C26F966173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C09DC-9129-4372-BFB7-E5A89001AF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87319-974A-43D2-86FB-84B7C441A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677A-3B95-496B-A51A-F8D2869DB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4B5F-12A1-4934-88AD-8690F5E5D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4F1E-C6D3-4946-894A-A9E988505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8F420-2E09-40EF-8F8A-57AEFB78E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CE5B8-7A31-45BA-8E40-BB97AFF2F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70EC5-D4FF-4E08-A861-E5AB6F051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1976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3F0F-9950-40CA-83C1-AE234755FE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761976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5F06-B733-499B-9782-E6DECF2B07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77F6-18D6-4C22-A7FC-3DF3CDEA90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1080" y="1833480"/>
            <a:ext cx="7010640" cy="23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онтроль качества исследований на чувствительность к антимикробным препарата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8C82-27AF-41D9-99EF-EB4935CAB1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66636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колонии для анализ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2995-189A-4683-9D1A-7A834FB5FC17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43ED-39AF-4913-8535-9DBCCA1A66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андарт МакФарланда 0,5 и доведенная суспензия исследуемого микроорганиз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05C9-AAB7-45AB-8445-DD8D1CC2C2D6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2"/>
          <p:cNvGraphicFramePr/>
          <p:nvPr/>
        </p:nvGraphicFramePr>
        <p:xfrm>
          <a:off x="1220760" y="228600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228600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2337-5D70-40A2-A6E1-86E8A18983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AB38-95B0-423E-9BDC-F6DACCCCFAC8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ование диспенсеров для диск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765080"/>
            <a:ext cx="5181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о, быстр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ивает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иски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мина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теряют навыки распределе-ния дисков вручну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distributeur"/>
          <p:cNvPicPr/>
          <p:nvPr/>
        </p:nvPicPr>
        <p:blipFill>
          <a:blip r:embed="rId1"/>
          <a:stretch/>
        </p:blipFill>
        <p:spPr>
          <a:xfrm>
            <a:off x="5105520" y="1905120"/>
            <a:ext cx="388620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C1F2-3966-4B84-B132-BB10FF5376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9315-EF42-46E6-9B5D-C2C70C77CE75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ые проблемы при анализах на чувствительность с диска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58" name="Picture 12" descr="Too Heavy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44956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609480" y="5435640"/>
            <a:ext cx="2971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5257800" y="5334120"/>
            <a:ext cx="31240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ишком ГУСТОЙ пос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2EE6-02A2-4D4B-80A5-0F98CD17F8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Disk moved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004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1"/>
          <p:cNvSpPr/>
          <p:nvPr/>
        </p:nvSpPr>
        <p:spPr>
          <a:xfrm>
            <a:off x="380880" y="3855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ые проблемы при анализах на чувствительность с дис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685800" y="5257800"/>
            <a:ext cx="2971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5410080" y="5265720"/>
            <a:ext cx="29718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ны неправильной формы, потому что диски расположены не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E2A2-5B16-4C59-BE06-0F6096F723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026E-6FB6-4E41-BA2A-8FC2AABDA9EF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3374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змерение размера зон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2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8"/>
          <p:cNvSpPr/>
          <p:nvPr/>
        </p:nvSpPr>
        <p:spPr>
          <a:xfrm>
            <a:off x="6127200" y="403848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664640" y="403848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тангенцирк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еспечьте хорошее освещение, измеряйте с обратной стороны ча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 разных антибиотиков разный размер 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гут помочь увеличительные приб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 миллиметры играют 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CE6D-EBC7-47C8-B307-A02A138A5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698040"/>
            <a:ext cx="84582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 градиента антибиотик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90AC-BF0A-4CAD-B4EC-3C5629078714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606E-998A-4542-94CB-64BCC60168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3906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зультаты анализов будут неправильными, есл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кроорганизм был неправильно идентифициров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сделана ошибка при записи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и выбраны неправильные антибиот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исследована проба не того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 запрошен неправильн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была обеспечена сохраннос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8B6E-BC71-4974-BBBD-FE1D44EAD5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53C9-9B4A-4050-8FFA-A2CE280E450E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я на чувствительность к антибиотика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5" name="Picture 4" descr="k_b"/>
          <p:cNvPicPr/>
          <p:nvPr/>
        </p:nvPicPr>
        <p:blipFill>
          <a:blip r:embed="rId1"/>
          <a:stretch/>
        </p:blipFill>
        <p:spPr>
          <a:xfrm>
            <a:off x="457200" y="1963800"/>
            <a:ext cx="1714680" cy="1668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96380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micmlc2"/>
          <p:cNvPicPr/>
          <p:nvPr/>
        </p:nvPicPr>
        <p:blipFill>
          <a:blip r:embed="rId3"/>
          <a:stretch/>
        </p:blipFill>
        <p:spPr>
          <a:xfrm>
            <a:off x="4114800" y="1963800"/>
            <a:ext cx="2209680" cy="1749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vitek-2"/>
          <p:cNvPicPr/>
          <p:nvPr/>
        </p:nvPicPr>
        <p:blipFill>
          <a:blip r:embed="rId4"/>
          <a:stretch/>
        </p:blipFill>
        <p:spPr>
          <a:xfrm>
            <a:off x="6400800" y="19638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1"/>
          <p:cNvSpPr/>
          <p:nvPr/>
        </p:nvSpPr>
        <p:spPr>
          <a:xfrm>
            <a:off x="676440" y="4114800"/>
            <a:ext cx="793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оставляют информацию для выбора подходящих препаратов для антимикробного л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DCD0-7D17-4A8C-BC2D-8194459A5F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666360"/>
            <a:ext cx="7391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зультаты разных метод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етод диффузии в агар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качественные результаты в одной из категорий: чувствительные, промежуточные или устойчив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етоды микроразведений и градиентной диффузии в агар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ют количественный результат, минимальную ингибирующую концентр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5BE5-AA91-47B7-A207-DB0794A059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80880" y="4572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пределения чувстви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685800" y="1143000"/>
            <a:ext cx="7558200" cy="5227560"/>
            <a:chOff x="685800" y="1143000"/>
            <a:chExt cx="7558200" cy="5227560"/>
          </a:xfrm>
        </p:grpSpPr>
        <p:pic>
          <p:nvPicPr>
            <p:cNvPr id="178" name="Picture 4" descr="PBL Susceptibility testing 2008"/>
            <p:cNvPicPr/>
            <p:nvPr/>
          </p:nvPicPr>
          <p:blipFill>
            <a:blip r:embed="rId1"/>
            <a:srcRect l="4364" t="8470" r="5455" b="8470"/>
            <a:stretch/>
          </p:blipFill>
          <p:spPr>
            <a:xfrm>
              <a:off x="685800" y="1143000"/>
              <a:ext cx="7558200" cy="52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1"/>
            <p:cNvSpPr/>
            <p:nvPr/>
          </p:nvSpPr>
          <p:spPr>
            <a:xfrm>
              <a:off x="761760" y="2666880"/>
              <a:ext cx="1600200" cy="70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робирки со средой, бактериями и возрастающей концентрацией антибиотик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"/>
            <p:cNvSpPr/>
            <p:nvPr/>
          </p:nvSpPr>
          <p:spPr>
            <a:xfrm>
              <a:off x="972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7"/>
            <p:cNvSpPr/>
            <p:nvPr/>
          </p:nvSpPr>
          <p:spPr>
            <a:xfrm>
              <a:off x="15372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8"/>
            <p:cNvSpPr/>
            <p:nvPr/>
          </p:nvSpPr>
          <p:spPr>
            <a:xfrm>
              <a:off x="21132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9"/>
            <p:cNvSpPr/>
            <p:nvPr/>
          </p:nvSpPr>
          <p:spPr>
            <a:xfrm>
              <a:off x="262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1"/>
            <p:cNvSpPr/>
            <p:nvPr/>
          </p:nvSpPr>
          <p:spPr>
            <a:xfrm>
              <a:off x="316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2"/>
            <p:cNvSpPr/>
            <p:nvPr/>
          </p:nvSpPr>
          <p:spPr>
            <a:xfrm>
              <a:off x="370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5"/>
            <p:cNvSpPr/>
            <p:nvPr/>
          </p:nvSpPr>
          <p:spPr>
            <a:xfrm>
              <a:off x="2216520" y="2895480"/>
              <a:ext cx="106164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М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инималь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И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нгибирующ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К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онцентр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6"/>
            <p:cNvSpPr/>
            <p:nvPr/>
          </p:nvSpPr>
          <p:spPr>
            <a:xfrm>
              <a:off x="3238560" y="2666880"/>
              <a:ext cx="1638360" cy="64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ерийные разведения в бульон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5"/>
            <p:cNvSpPr/>
            <p:nvPr/>
          </p:nvSpPr>
          <p:spPr>
            <a:xfrm>
              <a:off x="3708000" y="5486400"/>
              <a:ext cx="17020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Диффузия в ага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6"/>
            <p:cNvSpPr/>
            <p:nvPr/>
          </p:nvSpPr>
          <p:spPr>
            <a:xfrm>
              <a:off x="858960" y="3869280"/>
              <a:ext cx="833400" cy="16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растущи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7"/>
            <p:cNvSpPr/>
            <p:nvPr/>
          </p:nvSpPr>
          <p:spPr>
            <a:xfrm>
              <a:off x="838800" y="3557880"/>
              <a:ext cx="13708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Чашка агара 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8"/>
            <p:cNvSpPr/>
            <p:nvPr/>
          </p:nvSpPr>
          <p:spPr>
            <a:xfrm>
              <a:off x="798840" y="3750480"/>
              <a:ext cx="893520" cy="13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газоно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9"/>
            <p:cNvSpPr/>
            <p:nvPr/>
          </p:nvSpPr>
          <p:spPr>
            <a:xfrm>
              <a:off x="802800" y="4038480"/>
              <a:ext cx="79200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бактери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21"/>
            <p:cNvSpPr/>
            <p:nvPr/>
          </p:nvSpPr>
          <p:spPr>
            <a:xfrm>
              <a:off x="2736000" y="5562720"/>
              <a:ext cx="432000" cy="252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Разме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зон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22"/>
            <p:cNvSpPr/>
            <p:nvPr/>
          </p:nvSpPr>
          <p:spPr>
            <a:xfrm>
              <a:off x="2684160" y="4572000"/>
              <a:ext cx="897120" cy="483480"/>
            </a:xfrm>
            <a:prstGeom prst="rect">
              <a:avLst/>
            </a:prstGeom>
            <a:solidFill>
              <a:srgbClr val="fc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Зона задержки роста бактер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23"/>
            <p:cNvSpPr/>
            <p:nvPr/>
          </p:nvSpPr>
          <p:spPr>
            <a:xfrm>
              <a:off x="1617120" y="5014080"/>
              <a:ext cx="897120" cy="396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Диск, пропитанный антибиотико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24"/>
            <p:cNvSpPr/>
            <p:nvPr/>
          </p:nvSpPr>
          <p:spPr>
            <a:xfrm>
              <a:off x="1723680" y="5410080"/>
              <a:ext cx="432000" cy="252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26"/>
            <p:cNvSpPr/>
            <p:nvPr/>
          </p:nvSpPr>
          <p:spPr>
            <a:xfrm>
              <a:off x="4876920" y="1260720"/>
              <a:ext cx="3200400" cy="201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Анализы на чувствительность определяют, будет ли бактериальный рост подавляться антибиотиком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Чувствительность базируется на концентрации антибиотика, при которой нет заметного на глаз роста бактерий (см. МИК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28"/>
            <p:cNvSpPr/>
            <p:nvPr/>
          </p:nvSpPr>
          <p:spPr>
            <a:xfrm>
              <a:off x="4068000" y="4536000"/>
              <a:ext cx="5785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М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TextBox 29" descr=""/>
            <p:cNvPicPr/>
            <p:nvPr/>
          </p:nvPicPr>
          <p:blipFill>
            <a:blip r:embed="rId2"/>
            <a:stretch/>
          </p:blipFill>
          <p:spPr>
            <a:xfrm>
              <a:off x="3584520" y="3474720"/>
              <a:ext cx="26208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30"/>
            <p:cNvSpPr/>
            <p:nvPr/>
          </p:nvSpPr>
          <p:spPr>
            <a:xfrm>
              <a:off x="4248000" y="3600000"/>
              <a:ext cx="1260000" cy="3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Примечание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По размеру зоны можно вычислить МИК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31"/>
            <p:cNvSpPr/>
            <p:nvPr/>
          </p:nvSpPr>
          <p:spPr>
            <a:xfrm>
              <a:off x="4572000" y="3961080"/>
              <a:ext cx="1049040" cy="19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Чем меньше зона, тем выше МИК.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32"/>
            <p:cNvSpPr/>
            <p:nvPr/>
          </p:nvSpPr>
          <p:spPr>
            <a:xfrm>
              <a:off x="5621400" y="3516840"/>
              <a:ext cx="2379960" cy="2438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Чувствитель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Бактерии считаются чувствительными к антибиотику, если подавление их роста происходит при такой концентрации антибиотика, которую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ЛЕГКО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создать в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СЫВОРОТКЕ КРОВИ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пациента и которая будет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БЕЗОПАСНА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для пациента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 этом случае ожидается положительная реакция на лечени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Устойчив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отивоположность чувствительных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91F3-B3A0-45A7-B06F-FC44022D2C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244E-A0A2-47D6-9FA7-B73E00CFA99F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57200" y="3017880"/>
            <a:ext cx="2556000" cy="3306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7" name="Text Box 3"/>
          <p:cNvSpPr/>
          <p:nvPr/>
        </p:nvSpPr>
        <p:spPr>
          <a:xfrm>
            <a:off x="533520" y="1143000"/>
            <a:ext cx="822960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итут клинических и лабораторных стандартов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о микробиологии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о микробной химиотерапии 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6172200" y="3017880"/>
            <a:ext cx="2362320" cy="330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09" name="Object 6"/>
          <p:cNvGraphicFramePr/>
          <p:nvPr/>
        </p:nvGraphicFramePr>
        <p:xfrm>
          <a:off x="3429000" y="3017880"/>
          <a:ext cx="2490840" cy="33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017880"/>
                    <a:ext cx="2490840" cy="3306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1" name="Text Box 8"/>
          <p:cNvSpPr/>
          <p:nvPr/>
        </p:nvSpPr>
        <p:spPr>
          <a:xfrm>
            <a:off x="457200" y="457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B961-48BC-4E3A-B3FF-21B4CAECF0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6476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ля примера – выдержка из одного из источников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br>
              <a:rPr sz="28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препаратов для анализ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3ABC-B381-4EDF-B57E-7E26D0A76A5D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414360" y="232560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32560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TextBox 1" descr=""/>
          <p:cNvPicPr/>
          <p:nvPr/>
        </p:nvPicPr>
        <p:blipFill>
          <a:blip r:embed="rId3"/>
          <a:stretch/>
        </p:blipFill>
        <p:spPr>
          <a:xfrm>
            <a:off x="609480" y="2925720"/>
            <a:ext cx="706680" cy="13543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"/>
          <p:cNvSpPr/>
          <p:nvPr/>
        </p:nvSpPr>
        <p:spPr>
          <a:xfrm>
            <a:off x="533520" y="2124000"/>
            <a:ext cx="79675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лица 1. Группы одобренных Управлением по продовольствию и медикаментам США антимикробных препаратов, рекомендуемые лабораториям клинической микробиологии для плановых анализов и отчетности по «непривередливым» микроорганизмам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78D6-06BC-4E1D-BB21-1D37B24B8E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0F5A-31CA-4871-BAF9-D77FEB2FB30A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455760"/>
            <a:ext cx="754380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может быть источником ошибки в анализах на чувствитель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81040"/>
            <a:ext cx="7772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икробиологические сред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тимикробные препара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ультура для посе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нкуб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борудование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2B63-2EF0-4BD2-BC22-DDC1EC4610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A3F6-9489-41FF-938C-170C4A86918D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71629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тод диффузии в агар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52760"/>
            <a:ext cx="861048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га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сотой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юллер-Хинтон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 7.2–7.4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нимум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0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тибиотикам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евна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кФарланд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актери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ультур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рмостат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душная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тмосферный воздух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94F2-6169-485B-9A55-64E7FAABDF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0A11-36DD-48EF-9429-280E3A39CDD6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ные шт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685800" y="380988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кроорганизмы для КК должны быть получены из надежного источни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определенные микроорганизмы в анализах разных комбинаций «бактерии-антибиот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Olga</cp:lastModifiedBy>
  <dcterms:modified xsi:type="dcterms:W3CDTF">2013-05-12T11:00:29Z</dcterms:modified>
  <cp:revision>32</cp:revision>
  <dc:subject/>
  <dc:title>Microbiology QC</dc:title>
</cp:coreProperties>
</file>